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B053-B434-45E6-B7E2-2E7332F17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D299-05E2-4C10-97E3-6A39FF3C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DE69-9F31-4F9F-B844-142113F00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EFAD-D563-4291-BA79-D28515842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198F-7068-49B7-8A1D-255DE3EE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C42A-3086-4B62-BB9D-37A1A29D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3938-AF13-4A93-B197-D5830ABC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F5FB-9567-4B43-B035-FEAC09C1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8664-6F9D-43E6-B31E-1F9EC823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6C01-D9AB-4C03-BC99-5176E220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799C-3883-419B-B3A4-FFFCB810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E866-8E10-43F2-BEA9-C956BE66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971C-9180-405D-AFFF-D721DAE7C6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457200" y="1486080"/>
            <a:ext cx="8267760" cy="3924000"/>
          </a:xfrm>
          <a:prstGeom prst="rect">
            <a:avLst/>
          </a:prstGeom>
          <a:solidFill>
            <a:srgbClr val="ccffff"/>
          </a:solidFill>
          <a:ln w="28440">
            <a:solidFill>
              <a:srgbClr val="1111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1280" y="1477440"/>
            <a:ext cx="8293320" cy="328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71"/>
                </a:solidFill>
                <a:latin typeface="Arial"/>
              </a:rPr>
              <a:t>“</a:t>
            </a:r>
            <a:r>
              <a:rPr b="1" lang="ru-RU" sz="2200" spc="-1" strike="noStrike">
                <a:solidFill>
                  <a:srgbClr val="0d0d71"/>
                </a:solidFill>
                <a:latin typeface="Arial"/>
              </a:rPr>
              <a:t>О повышении публикационной активности НПР университета в специализированных научных журналах </a:t>
            </a:r>
            <a:br>
              <a:rPr sz="2200"/>
            </a:br>
            <a:r>
              <a:rPr b="1" lang="en-US" sz="2200" spc="-1" strike="noStrike">
                <a:solidFill>
                  <a:srgbClr val="0d0d71"/>
                </a:solidFill>
                <a:latin typeface="Arial"/>
              </a:rPr>
              <a:t>(</a:t>
            </a:r>
            <a:r>
              <a:rPr b="1" lang="ru-RU" sz="2200" spc="-1" strike="noStrike">
                <a:solidFill>
                  <a:srgbClr val="0d0d71"/>
                </a:solidFill>
                <a:latin typeface="Arial"/>
              </a:rPr>
              <a:t>ВАК</a:t>
            </a:r>
            <a:r>
              <a:rPr b="1" lang="en-US" sz="2200" spc="-1" strike="noStrike">
                <a:solidFill>
                  <a:srgbClr val="0d0d71"/>
                </a:solidFill>
                <a:latin typeface="Arial"/>
              </a:rPr>
              <a:t>, </a:t>
            </a:r>
            <a:r>
              <a:rPr b="1" lang="ru-RU" sz="2200" spc="-1" strike="noStrike">
                <a:solidFill>
                  <a:srgbClr val="0d0d71"/>
                </a:solidFill>
                <a:latin typeface="Arial"/>
              </a:rPr>
              <a:t>РИНЦ</a:t>
            </a:r>
            <a:r>
              <a:rPr b="1" lang="en-US" sz="2200" spc="-1" strike="noStrike">
                <a:solidFill>
                  <a:srgbClr val="0d0d71"/>
                </a:solidFill>
                <a:latin typeface="Arial"/>
              </a:rPr>
              <a:t>, SCOPUS, </a:t>
            </a:r>
            <a:br>
              <a:rPr sz="2200"/>
            </a:br>
            <a:r>
              <a:rPr b="1" lang="en-US" sz="2200" spc="-1" strike="noStrike">
                <a:solidFill>
                  <a:srgbClr val="0d0d71"/>
                </a:solidFill>
                <a:latin typeface="Arial"/>
              </a:rPr>
              <a:t>WEB of SCIENCE)”</a:t>
            </a:r>
            <a:br>
              <a:rPr sz="22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2323e5"/>
                </a:solidFill>
                <a:latin typeface="Arial"/>
              </a:rPr>
              <a:t>Докладчик: д.э.н., профессор Азарян Е.М.</a:t>
            </a: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46120" y="185400"/>
            <a:ext cx="7988400" cy="8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"/>
              </a:rPr>
              <a:t>ГО ВПО «Донецкий национальный университет экономики и торговл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"/>
              </a:rPr>
              <a:t>имени Михаила Туган-Барановского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Публикации в базах 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COPUS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и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WEB of SCIENCE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КОЛЧЕВА"/>
          <p:cNvPicPr/>
          <p:nvPr/>
        </p:nvPicPr>
        <p:blipFill>
          <a:blip r:embed="rId1"/>
          <a:stretch/>
        </p:blipFill>
        <p:spPr>
          <a:xfrm>
            <a:off x="2222640" y="3881520"/>
            <a:ext cx="4479840" cy="223812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436680" y="1378080"/>
            <a:ext cx="4051080" cy="298584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  <p:pic>
        <p:nvPicPr>
          <p:cNvPr id="81" name="Picture 6" descr="1"/>
          <p:cNvPicPr/>
          <p:nvPr/>
        </p:nvPicPr>
        <p:blipFill>
          <a:blip r:embed="rId3"/>
          <a:stretch/>
        </p:blipFill>
        <p:spPr>
          <a:xfrm>
            <a:off x="4630680" y="1468440"/>
            <a:ext cx="4127400" cy="233676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Рисунок8"/>
          <p:cNvPicPr/>
          <p:nvPr/>
        </p:nvPicPr>
        <p:blipFill>
          <a:blip r:embed="rId1"/>
          <a:stretch/>
        </p:blipFill>
        <p:spPr>
          <a:xfrm>
            <a:off x="663480" y="360360"/>
            <a:ext cx="7867800" cy="630252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495360" y="1511280"/>
            <a:ext cx="7924680" cy="3898800"/>
          </a:xfrm>
          <a:prstGeom prst="rect">
            <a:avLst/>
          </a:prstGeom>
          <a:solidFill>
            <a:srgbClr val="ffff99"/>
          </a:solidFill>
          <a:ln w="28440">
            <a:solidFill>
              <a:srgbClr val="2323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alibri Light"/>
              </a:rPr>
              <a:t>Методы повышения публикационной активности</a:t>
            </a:r>
            <a:r>
              <a:rPr b="0" lang="ru-RU" sz="4000" spc="-1" strike="noStrike">
                <a:solidFill>
                  <a:srgbClr val="0033cc"/>
                </a:solidFill>
                <a:latin typeface="Calibri Light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0400" y="1596600"/>
            <a:ext cx="788688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интеграция с институтами РАН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организация междисциплинарных лабораторий совместно с университетами и научными институтами и предприятиями ДНР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инициация научно-исследовательских проектов республиканского, международного уровн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совершенствование программы стимулирования НПР для повышения публикационной актив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реализация программы языковой подготовк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участие в международных научно-исследовательских проектах, конференциях, симпозиума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повышение публикационной активности ученых университета, в изданиях с высоким импакт-фактор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Рисунок6"/>
          <p:cNvPicPr/>
          <p:nvPr/>
        </p:nvPicPr>
        <p:blipFill>
          <a:blip r:embed="rId1"/>
          <a:stretch/>
        </p:blipFill>
        <p:spPr>
          <a:xfrm>
            <a:off x="655560" y="289080"/>
            <a:ext cx="7959960" cy="452916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Рисунок11"/>
          <p:cNvPicPr/>
          <p:nvPr/>
        </p:nvPicPr>
        <p:blipFill>
          <a:blip r:embed="rId1"/>
          <a:stretch/>
        </p:blipFill>
        <p:spPr>
          <a:xfrm>
            <a:off x="569880" y="380880"/>
            <a:ext cx="7953480" cy="499140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веб оф сайнс"/>
          <p:cNvPicPr/>
          <p:nvPr/>
        </p:nvPicPr>
        <p:blipFill>
          <a:blip r:embed="rId1"/>
          <a:stretch/>
        </p:blipFill>
        <p:spPr>
          <a:xfrm>
            <a:off x="542880" y="371520"/>
            <a:ext cx="8032680" cy="612756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скопус"/>
          <p:cNvPicPr/>
          <p:nvPr/>
        </p:nvPicPr>
        <p:blipFill>
          <a:blip r:embed="rId1"/>
          <a:stretch/>
        </p:blipFill>
        <p:spPr>
          <a:xfrm>
            <a:off x="612720" y="531720"/>
            <a:ext cx="7970760" cy="526104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6"/>
          <p:cNvSpPr/>
          <p:nvPr/>
        </p:nvSpPr>
        <p:spPr>
          <a:xfrm>
            <a:off x="444600" y="2031840"/>
            <a:ext cx="4927680" cy="2997360"/>
          </a:xfrm>
          <a:prstGeom prst="rect">
            <a:avLst/>
          </a:prstGeom>
          <a:solidFill>
            <a:srgbClr val="ffff99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alibri Light"/>
              </a:rPr>
              <a:t>Основные показатели публикационной деятельности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0360" y="2155680"/>
            <a:ext cx="4940280" cy="28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общее число публикаций за определенный период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распределение публикаций по видам изданий, по годам, по соавтора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средний импакт-фактор журналов, в которых опубликованы стать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публикации в зарубежных журнала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цитируем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Рисунок4"/>
          <p:cNvPicPr/>
          <p:nvPr/>
        </p:nvPicPr>
        <p:blipFill>
          <a:blip r:embed="rId1"/>
          <a:stretch/>
        </p:blipFill>
        <p:spPr>
          <a:xfrm>
            <a:off x="5946840" y="2195640"/>
            <a:ext cx="2876400" cy="277020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Рисунок7"/>
          <p:cNvPicPr/>
          <p:nvPr/>
        </p:nvPicPr>
        <p:blipFill>
          <a:blip r:embed="rId1"/>
          <a:stretch/>
        </p:blipFill>
        <p:spPr>
          <a:xfrm>
            <a:off x="577800" y="395280"/>
            <a:ext cx="7964640" cy="4416480"/>
          </a:xfrm>
          <a:prstGeom prst="rect">
            <a:avLst/>
          </a:prstGeom>
          <a:ln w="28440">
            <a:solidFill>
              <a:srgbClr val="2323e5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444600" y="2031840"/>
            <a:ext cx="8128080" cy="4152960"/>
          </a:xfrm>
          <a:prstGeom prst="rect">
            <a:avLst/>
          </a:prstGeom>
          <a:solidFill>
            <a:srgbClr val="ccffff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685800" y="368280"/>
            <a:ext cx="7785000" cy="1473120"/>
          </a:xfrm>
          <a:prstGeom prst="rect">
            <a:avLst/>
          </a:prstGeom>
          <a:solidFill>
            <a:srgbClr val="ffff99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5200" y="365040"/>
            <a:ext cx="7950240" cy="16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23e5"/>
                </a:solidFill>
                <a:latin typeface="Times New Roman"/>
                <a:ea typeface="맑은 고딕"/>
              </a:rPr>
              <a:t>Результаты публикационной активности в 2016 году в наукометрических базах </a:t>
            </a:r>
            <a:br>
              <a:rPr sz="2400"/>
            </a:br>
            <a:r>
              <a:rPr b="1" lang="ru-RU" sz="2400" spc="-1" strike="noStrike">
                <a:solidFill>
                  <a:srgbClr val="2323e5"/>
                </a:solidFill>
                <a:latin typeface="Times New Roman"/>
                <a:ea typeface="맑은 고딕"/>
              </a:rPr>
              <a:t>РИНЦ, SCOPUS, WEB of SCIENCE </a:t>
            </a:r>
            <a:br>
              <a:rPr sz="2400"/>
            </a:br>
            <a:r>
              <a:rPr b="1" lang="ru-RU" sz="2400" spc="-1" strike="noStrike">
                <a:solidFill>
                  <a:srgbClr val="2323e5"/>
                </a:solidFill>
                <a:latin typeface="Times New Roman"/>
                <a:ea typeface="맑은 고딕"/>
              </a:rPr>
              <a:t>лучшие показали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7040" y="2079720"/>
            <a:ext cx="788688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1111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11193"/>
                </a:solidFill>
                <a:latin typeface="Calibri"/>
              </a:rPr>
              <a:t>кафедра финансов (РИНЦ - 23)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1111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11193"/>
                </a:solidFill>
                <a:latin typeface="Calibri"/>
              </a:rPr>
              <a:t>кафедра экономики предприятия (РИНЦ – 21, ВАК – 3)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1111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11193"/>
                </a:solidFill>
                <a:latin typeface="Calibri"/>
              </a:rPr>
              <a:t>кафедра маркетингового менеджмента (РИНЦ – 21)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1111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11193"/>
                </a:solidFill>
                <a:latin typeface="Calibri"/>
              </a:rPr>
              <a:t>кафедра оборудования пищевых производств (РИНЦ – 17, ВАК – 1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1111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11193"/>
                </a:solidFill>
                <a:latin typeface="Calibri"/>
              </a:rPr>
              <a:t>кафедра гостиничного и ресторанного дела (РИНЦ – 14,  </a:t>
            </a:r>
            <a:r>
              <a:rPr b="0" lang="en-US" sz="2200" spc="-1" strike="noStrike">
                <a:solidFill>
                  <a:srgbClr val="111193"/>
                </a:solidFill>
                <a:latin typeface="Calibri"/>
              </a:rPr>
              <a:t>WEB of SCIENCE</a:t>
            </a:r>
            <a:r>
              <a:rPr b="0" lang="uk-UA" sz="2200" spc="-1" strike="noStrike">
                <a:solidFill>
                  <a:srgbClr val="111193"/>
                </a:solidFill>
                <a:latin typeface="Calibri"/>
              </a:rPr>
              <a:t>-1; </a:t>
            </a:r>
            <a:r>
              <a:rPr b="0" lang="ru-RU" sz="2200" spc="-1" strike="noStrike">
                <a:solidFill>
                  <a:srgbClr val="111193"/>
                </a:solidFill>
                <a:latin typeface="Calibri"/>
              </a:rPr>
              <a:t>ВАК – 2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1111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11193"/>
                </a:solidFill>
                <a:latin typeface="Calibri"/>
              </a:rPr>
              <a:t>кафедра товароведения и экспертизы продовольственных товаров (РИНЦ – 12, ВАК – 18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1111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11193"/>
                </a:solidFill>
                <a:latin typeface="Calibri"/>
              </a:rPr>
              <a:t>кафедра естествознания и БЖД (РИНЦ – 17, SCOPUS – 2, ВАК – 4)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1111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11193"/>
                </a:solidFill>
                <a:latin typeface="Calibri"/>
              </a:rPr>
              <a:t>кафедра иностранных языков (РИНЦ – 12, ВАК – 1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9"/>
          <p:cNvSpPr/>
          <p:nvPr/>
        </p:nvSpPr>
        <p:spPr>
          <a:xfrm>
            <a:off x="5334120" y="304920"/>
            <a:ext cx="3162240" cy="1346040"/>
          </a:xfrm>
          <a:prstGeom prst="rect">
            <a:avLst/>
          </a:prstGeom>
          <a:solidFill>
            <a:srgbClr val="ccffff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WordArt 7"/>
          <p:cNvSpPr txBox="1"/>
          <p:nvPr/>
        </p:nvSpPr>
        <p:spPr>
          <a:xfrm>
            <a:off x="5484960" y="628560"/>
            <a:ext cx="2923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B  of SCIENC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1195560" y="252360"/>
            <a:ext cx="2489040" cy="1397160"/>
          </a:xfrm>
          <a:prstGeom prst="rect">
            <a:avLst/>
          </a:prstGeom>
          <a:solidFill>
            <a:srgbClr val="ccffff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WordArt 11"/>
          <p:cNvSpPr txBox="1"/>
          <p:nvPr/>
        </p:nvSpPr>
        <p:spPr>
          <a:xfrm>
            <a:off x="1763640" y="560520"/>
            <a:ext cx="1457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COPU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Rectangle 12"/>
          <p:cNvSpPr/>
          <p:nvPr/>
        </p:nvSpPr>
        <p:spPr>
          <a:xfrm>
            <a:off x="444600" y="1893960"/>
            <a:ext cx="4016160" cy="3490920"/>
          </a:xfrm>
          <a:prstGeom prst="rect">
            <a:avLst/>
          </a:prstGeom>
          <a:solidFill>
            <a:srgbClr val="ffff99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13"/>
          <p:cNvSpPr/>
          <p:nvPr/>
        </p:nvSpPr>
        <p:spPr>
          <a:xfrm>
            <a:off x="4780080" y="1892160"/>
            <a:ext cx="4017960" cy="3492720"/>
          </a:xfrm>
          <a:prstGeom prst="rect">
            <a:avLst/>
          </a:prstGeom>
          <a:solidFill>
            <a:srgbClr val="ffff99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4568760" y="1943280"/>
            <a:ext cx="4346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Бутова Алла Павловна</a:t>
            </a:r>
            <a:r>
              <a:rPr b="0" lang="ru-RU" sz="1800" spc="-1" strike="noStrike">
                <a:solidFill>
                  <a:srgbClr val="0033cc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Calibri"/>
              </a:rPr>
              <a:t>старший преподаватель кафедры гостиничного и ресторанного дел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Парамонова Виктория Андреевна</a:t>
            </a:r>
            <a:r>
              <a:rPr b="0" lang="ru-RU" sz="1800" spc="-1" strike="noStrike">
                <a:solidFill>
                  <a:srgbClr val="0033cc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Calibri"/>
              </a:rPr>
              <a:t>к.т.н., доцент кафедры оборудования пищевых производст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Колчева Дарья Валерьевна</a:t>
            </a:r>
            <a:r>
              <a:rPr b="0" lang="ru-RU" sz="1800" spc="-1" strike="noStrike">
                <a:solidFill>
                  <a:srgbClr val="0033cc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Calibri"/>
              </a:rPr>
              <a:t>к.т.н., доцент кафедры экспертиза в таможенном дел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cc"/>
                </a:solidFill>
                <a:latin typeface="Calibri"/>
              </a:rPr>
              <a:t>Шульц </a:t>
            </a: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Анна Сергеевна</a:t>
            </a:r>
            <a:r>
              <a:rPr b="1" lang="uk-UA" sz="1800" spc="-1" strike="noStrike">
                <a:solidFill>
                  <a:srgbClr val="0033cc"/>
                </a:solidFill>
                <a:latin typeface="Calibri"/>
              </a:rPr>
              <a:t>,</a:t>
            </a:r>
            <a:r>
              <a:rPr b="0" lang="uk-UA" sz="1800" spc="-1" strike="noStrike">
                <a:solidFill>
                  <a:srgbClr val="0033cc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Calibri"/>
              </a:rPr>
              <a:t>старший </a:t>
            </a:r>
            <a:r>
              <a:rPr b="0" lang="ru-RU" sz="1800" spc="-1" strike="noStrike">
                <a:solidFill>
                  <a:srgbClr val="0033cc"/>
                </a:solidFill>
                <a:latin typeface="Calibri"/>
              </a:rPr>
              <a:t>преподаватель</a:t>
            </a:r>
            <a:r>
              <a:rPr b="0" lang="uk-UA" sz="1800" spc="-1" strike="noStrike">
                <a:solidFill>
                  <a:srgbClr val="0033cc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33cc"/>
                </a:solidFill>
                <a:latin typeface="Calibri"/>
              </a:rPr>
              <a:t>кафедры экспертиза в таможенном дел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771480" y="2157480"/>
            <a:ext cx="3368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Попова  Ирина  Витальевна,</a:t>
            </a:r>
            <a:r>
              <a:rPr b="0" lang="ru-RU" sz="1800" spc="-1" strike="noStrike">
                <a:solidFill>
                  <a:srgbClr val="0033cc"/>
                </a:solidFill>
                <a:latin typeface="Calibri"/>
              </a:rPr>
              <a:t> д.э.н., доцент, и.о. заведующего кафедрой банковского де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Погребняк Андрей Владимирович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Calibri"/>
              </a:rPr>
              <a:t>к.т.н., доцент кафедры естествознания и безопасности жизнедеятельност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Calibri"/>
              </a:rPr>
              <a:t>(опубликовано 2 статьи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17"/>
          <p:cNvSpPr/>
          <p:nvPr/>
        </p:nvSpPr>
        <p:spPr>
          <a:xfrm rot="16200000">
            <a:off x="3732120" y="1248840"/>
            <a:ext cx="569880" cy="75744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18"/>
          <p:cNvSpPr/>
          <p:nvPr/>
        </p:nvSpPr>
        <p:spPr>
          <a:xfrm rot="10800000">
            <a:off x="4676400" y="1328400"/>
            <a:ext cx="676440" cy="5713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3T13:50:15Z</dcterms:created>
  <dc:creator>ДонНУЭТ имени Михаила Туган-Барановского</dc:creator>
  <dc:description/>
  <cp:keywords>публикация журнал наука</cp:keywords>
  <dc:language>en-US</dc:language>
  <cp:lastModifiedBy>DonNUET</cp:lastModifiedBy>
  <dcterms:modified xsi:type="dcterms:W3CDTF">2017-01-26T09:04:33Z</dcterms:modified>
  <cp:revision>55</cp:revision>
  <dc:subject>Публикационная активность НПР университета</dc:subject>
  <dc:title>Публикационная активность НПР университета</dc:title>
</cp:coreProperties>
</file>