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4F5-D2CC-40AF-B02D-61858E55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359-E574-4E79-8BAE-02C8633B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B3B-2945-4511-AA58-73DE1C96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96B-7985-45AC-8832-489905E6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DAB-4E76-4EA9-AD17-4E023A28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C2A-647E-4844-A497-B30A8FD0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B71-AE72-457E-9700-7FF2A3FB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032-B4FB-457C-8CF9-690EA47B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894-FA13-4481-BF99-2C5DAC74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644-D8C9-4888-91DC-40E90A1C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B70-78B1-47DC-8F4F-FC07E056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E08-6660-419B-91D6-29E575F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7397-AF17-4D0C-8D61-1D4019DB3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57200" y="1486080"/>
            <a:ext cx="8267760" cy="3924000"/>
          </a:xfrm>
          <a:prstGeom prst="rect">
            <a:avLst/>
          </a:prstGeom>
          <a:solidFill>
            <a:srgbClr val="ccffff"/>
          </a:solidFill>
          <a:ln w="28440">
            <a:solidFill>
              <a:srgbClr val="111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1477440"/>
            <a:ext cx="8293320" cy="328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“</a:t>
            </a:r>
            <a:r>
              <a:rPr b="1" lang="ru-RU" sz="2200" spc="-1" strike="noStrike">
                <a:solidFill>
                  <a:srgbClr val="0d0d71"/>
                </a:solidFill>
                <a:latin typeface="Arial"/>
              </a:rPr>
              <a:t>О повышении публикационной активности НПР университета в специализированных научных журналах </a:t>
            </a:r>
            <a:br>
              <a:rPr sz="2200"/>
            </a:b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(</a:t>
            </a:r>
            <a:r>
              <a:rPr b="1" lang="ru-RU" sz="2200" spc="-1" strike="noStrike">
                <a:solidFill>
                  <a:srgbClr val="0d0d71"/>
                </a:solidFill>
                <a:latin typeface="Arial"/>
              </a:rPr>
              <a:t>ВАК</a:t>
            </a: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d0d71"/>
                </a:solidFill>
                <a:latin typeface="Arial"/>
              </a:rPr>
              <a:t>РИНЦ</a:t>
            </a: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, SCOPUS, </a:t>
            </a:r>
            <a:br>
              <a:rPr sz="2200"/>
            </a:b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WEB of SCIENCE)”</a:t>
            </a:r>
            <a:br>
              <a:rPr sz="22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323e5"/>
                </a:solidFill>
                <a:latin typeface="Arial"/>
              </a:rPr>
              <a:t>Докладчик: д.э.н., профессор Азарян Е.М.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6120" y="185400"/>
            <a:ext cx="79884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ГО ВПО «Донецкий национальный университет экономики и торгов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имени Михаила Туган-Барановского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убликации в базах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COPUS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EB of SCIENC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КОЛЧЕВА"/>
          <p:cNvPicPr/>
          <p:nvPr/>
        </p:nvPicPr>
        <p:blipFill>
          <a:blip r:embed="rId1"/>
          <a:stretch/>
        </p:blipFill>
        <p:spPr>
          <a:xfrm>
            <a:off x="2222640" y="3881520"/>
            <a:ext cx="4479840" cy="22381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36680" y="1378080"/>
            <a:ext cx="4051080" cy="298584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81" name="Picture 6" descr="1"/>
          <p:cNvPicPr/>
          <p:nvPr/>
        </p:nvPicPr>
        <p:blipFill>
          <a:blip r:embed="rId3"/>
          <a:stretch/>
        </p:blipFill>
        <p:spPr>
          <a:xfrm>
            <a:off x="4630680" y="1468440"/>
            <a:ext cx="4127400" cy="23367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Рисунок8"/>
          <p:cNvPicPr/>
          <p:nvPr/>
        </p:nvPicPr>
        <p:blipFill>
          <a:blip r:embed="rId1"/>
          <a:stretch/>
        </p:blipFill>
        <p:spPr>
          <a:xfrm>
            <a:off x="663480" y="360360"/>
            <a:ext cx="7867800" cy="63025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495360" y="1511280"/>
            <a:ext cx="7924680" cy="3898800"/>
          </a:xfrm>
          <a:prstGeom prst="rect">
            <a:avLst/>
          </a:prstGeom>
          <a:solidFill>
            <a:srgbClr val="ffff99"/>
          </a:solidFill>
          <a:ln w="28440">
            <a:solidFill>
              <a:srgbClr val="232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 Light"/>
              </a:rPr>
              <a:t>Методы повышения публикационной активности</a:t>
            </a:r>
            <a:r>
              <a:rPr b="0" lang="ru-RU" sz="4000" spc="-1" strike="noStrike">
                <a:solidFill>
                  <a:srgbClr val="0033cc"/>
                </a:solidFill>
                <a:latin typeface="Calibri Light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0400" y="1596600"/>
            <a:ext cx="78868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интеграция с институтами РАН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организация междисциплинарных лабораторий совместно с университетами и научными институтами и предприятиями ДН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инициация научно-исследовательских проектов республиканского, международного уровн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овершенствование программы стимулирования НПР для повышения публикационной актив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реализация программы языковой подготовк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участие в международных научно-исследовательских проектах, конференциях, симпозиум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повышение публикационной активности ученых университета, в изданиях с высоким импакт-факто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Рисунок6"/>
          <p:cNvPicPr/>
          <p:nvPr/>
        </p:nvPicPr>
        <p:blipFill>
          <a:blip r:embed="rId1"/>
          <a:stretch/>
        </p:blipFill>
        <p:spPr>
          <a:xfrm>
            <a:off x="655560" y="289080"/>
            <a:ext cx="7959960" cy="45291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Рисунок11"/>
          <p:cNvPicPr/>
          <p:nvPr/>
        </p:nvPicPr>
        <p:blipFill>
          <a:blip r:embed="rId1"/>
          <a:stretch/>
        </p:blipFill>
        <p:spPr>
          <a:xfrm>
            <a:off x="569880" y="380880"/>
            <a:ext cx="7953480" cy="49914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веб оф сайнс"/>
          <p:cNvPicPr/>
          <p:nvPr/>
        </p:nvPicPr>
        <p:blipFill>
          <a:blip r:embed="rId1"/>
          <a:stretch/>
        </p:blipFill>
        <p:spPr>
          <a:xfrm>
            <a:off x="542880" y="371520"/>
            <a:ext cx="8032680" cy="61275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скопус"/>
          <p:cNvPicPr/>
          <p:nvPr/>
        </p:nvPicPr>
        <p:blipFill>
          <a:blip r:embed="rId1"/>
          <a:stretch/>
        </p:blipFill>
        <p:spPr>
          <a:xfrm>
            <a:off x="612720" y="531720"/>
            <a:ext cx="7970760" cy="526104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444600" y="2031840"/>
            <a:ext cx="4927680" cy="2997360"/>
          </a:xfrm>
          <a:prstGeom prst="rect">
            <a:avLst/>
          </a:prstGeom>
          <a:solidFill>
            <a:srgbClr val="ffff99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 Light"/>
              </a:rPr>
              <a:t>Основные показатели публикационной деятельност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360" y="2155680"/>
            <a:ext cx="4940280" cy="28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общее число публикаций за определенный период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распределение публикаций по видам изданий, по годам, по соавтор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редний импакт-фактор журналов, в которых опубликованы стать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публикации в зарубежных журнал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цитир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Рисунок4"/>
          <p:cNvPicPr/>
          <p:nvPr/>
        </p:nvPicPr>
        <p:blipFill>
          <a:blip r:embed="rId1"/>
          <a:stretch/>
        </p:blipFill>
        <p:spPr>
          <a:xfrm>
            <a:off x="5946840" y="2195640"/>
            <a:ext cx="2876400" cy="27702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Рисунок7"/>
          <p:cNvPicPr/>
          <p:nvPr/>
        </p:nvPicPr>
        <p:blipFill>
          <a:blip r:embed="rId1"/>
          <a:stretch/>
        </p:blipFill>
        <p:spPr>
          <a:xfrm>
            <a:off x="577800" y="395280"/>
            <a:ext cx="7964640" cy="4416480"/>
          </a:xfrm>
          <a:prstGeom prst="rect">
            <a:avLst/>
          </a:prstGeom>
          <a:ln w="28440">
            <a:solidFill>
              <a:srgbClr val="2323e5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444600" y="2031840"/>
            <a:ext cx="8128080" cy="415296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85800" y="368280"/>
            <a:ext cx="7785000" cy="14731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5200" y="365040"/>
            <a:ext cx="7950240" cy="16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23e5"/>
                </a:solidFill>
                <a:latin typeface="Times New Roman"/>
                <a:ea typeface="맑은 고딕"/>
              </a:rPr>
              <a:t>Результаты публикационной активности в 2016 году в наукометрических базах </a:t>
            </a:r>
            <a:br>
              <a:rPr sz="2400"/>
            </a:br>
            <a:r>
              <a:rPr b="1" lang="ru-RU" sz="2400" spc="-1" strike="noStrike">
                <a:solidFill>
                  <a:srgbClr val="2323e5"/>
                </a:solidFill>
                <a:latin typeface="Times New Roman"/>
                <a:ea typeface="맑은 고딕"/>
              </a:rPr>
              <a:t>РИНЦ, SCOPUS, WEB of SCIENCE </a:t>
            </a:r>
            <a:br>
              <a:rPr sz="2400"/>
            </a:br>
            <a:r>
              <a:rPr b="1" lang="ru-RU" sz="2400" spc="-1" strike="noStrike">
                <a:solidFill>
                  <a:srgbClr val="2323e5"/>
                </a:solidFill>
                <a:latin typeface="Times New Roman"/>
                <a:ea typeface="맑은 고딕"/>
              </a:rPr>
              <a:t>лучшие показал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7040" y="2079720"/>
            <a:ext cx="78868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финансов (РИНЦ - 23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экономики предприятия (РИНЦ – 21, ВАК – 3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маркетингового менеджмента (РИНЦ – 21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оборудования пищевых производств (РИНЦ – 17, ВАК –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гостиничного и ресторанного дела (РИНЦ – 14,  </a:t>
            </a:r>
            <a:r>
              <a:rPr b="0" lang="en-US" sz="2200" spc="-1" strike="noStrike">
                <a:solidFill>
                  <a:srgbClr val="111193"/>
                </a:solidFill>
                <a:latin typeface="Calibri"/>
              </a:rPr>
              <a:t>WEB of SCIENCE</a:t>
            </a:r>
            <a:r>
              <a:rPr b="0" lang="uk-UA" sz="2200" spc="-1" strike="noStrike">
                <a:solidFill>
                  <a:srgbClr val="111193"/>
                </a:solidFill>
                <a:latin typeface="Calibri"/>
              </a:rPr>
              <a:t>-1; </a:t>
            </a: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ВАК – 2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товароведения и экспертизы продовольственных товаров (РИНЦ – 12, ВАК – 18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естествознания и БЖД (РИНЦ – 17, SCOPUS – 2, ВАК – 4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иностранных языков (РИНЦ – 12, ВАК –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5334120" y="304920"/>
            <a:ext cx="3162240" cy="134604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5484960" y="628560"/>
            <a:ext cx="2923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B  of SCIE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195560" y="252360"/>
            <a:ext cx="2489040" cy="139716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1763640" y="560520"/>
            <a:ext cx="1457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OP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444600" y="1893960"/>
            <a:ext cx="4016160" cy="34909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780080" y="1892160"/>
            <a:ext cx="4017960" cy="34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568760" y="1943280"/>
            <a:ext cx="434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Бутова Алла Павловна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старший преподаватель кафедры гостиничного и ресторанного де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арамонова Виктория Андреевна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к.т.н., доцент кафедры оборудования пищевых производс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Колчева Дарья Валерьевна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к.т.н., доцент кафедры экспертиза в таможенном дел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Calibri"/>
              </a:rPr>
              <a:t>Шульц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Анна Сергеевна</a:t>
            </a:r>
            <a:r>
              <a:rPr b="1" lang="uk-UA" sz="18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0" lang="uk-UA" sz="1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Calibri"/>
              </a:rPr>
              <a:t>старший 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преподаватель</a:t>
            </a:r>
            <a:r>
              <a:rPr b="0" lang="uk-UA" sz="18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кафедры экспертиза в таможенном де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771480" y="2157480"/>
            <a:ext cx="336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опова  Ирина  Витальевна,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 д.э.н., доцент, и.о. заведующего кафедрой банковского д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огребняк Андрей Владимиро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к.т.н., доцент кафедры естествознания и безопасности жизнедеятель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(опубликовано 2 статьи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7"/>
          <p:cNvSpPr/>
          <p:nvPr/>
        </p:nvSpPr>
        <p:spPr>
          <a:xfrm rot="16200000">
            <a:off x="3732120" y="1248840"/>
            <a:ext cx="569880" cy="7574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 rot="10800000">
            <a:off x="4676400" y="1328400"/>
            <a:ext cx="676440" cy="5713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3:50:15Z</dcterms:created>
  <dc:creator>ДонНУЭТ имени Михаила Туган-Барановского</dc:creator>
  <dc:description/>
  <cp:keywords>публикация журнал наука</cp:keywords>
  <dc:language>en-US</dc:language>
  <cp:lastModifiedBy>DonNUET</cp:lastModifiedBy>
  <dcterms:modified xsi:type="dcterms:W3CDTF">2017-01-26T09:04:33Z</dcterms:modified>
  <cp:revision>55</cp:revision>
  <dc:subject>Публикационная активность НПР университета</dc:subject>
  <dc:title>Публикационная активность НПР университета</dc:title>
</cp:coreProperties>
</file>